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AC9-FB30-485D-B8F1-5BB738B6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543-4FB8-4E6A-B452-858DB8E7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EBB-1CA3-4039-A2BA-016C3FD6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621-7845-442A-90AD-F73DF9AB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B56-8C73-4CB5-865F-3216676F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B67-5393-452A-A654-4D6E98E9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CD3-C114-4269-8B88-7D4C71A1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EA7-AB69-4361-9C5C-32FE8E3F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5E1-A4C0-4331-A034-06DB4EC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E8A-6C9A-4B16-B293-9BEA3443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10A-CDDF-4B5E-9996-E3BF5424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BC7-6011-4E8F-9548-0D7803E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BB2-68F7-4742-84EC-BDE07580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920" y="1981080"/>
            <a:ext cx="85341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afety in the Workplace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not leave bed cranks exten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960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 hazards in transporting patients on a stretc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00100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not climb to reach equipment without a safety lad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 intersections with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7240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oid hazards in the pharm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n spills from the floor immedia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5:27:52Z</dcterms:created>
  <dc:creator>Renee Krzypkowski</dc:creator>
  <dc:description/>
  <dc:language>en-US</dc:language>
  <cp:lastModifiedBy>Krista</cp:lastModifiedBy>
  <dcterms:modified xsi:type="dcterms:W3CDTF">2011-08-15T21:08:59Z</dcterms:modified>
  <cp:revision>3</cp:revision>
  <dc:subject/>
  <dc:title>PowerPoint Presentation</dc:title>
</cp:coreProperties>
</file>